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8A7-AC94-4EBB-A578-B89CF670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B31-4B42-4286-BDB2-5BF1E872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6A8-013C-4E97-A97D-DE397E33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C7B-4749-4253-B744-191E7A9F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B60-3B9D-45BE-83AF-4746EDD2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866-393F-4348-AF5F-74DF2315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597C-37BD-4937-A744-29671E4B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DFC-EAE6-4FA2-996E-B240B79F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056-11A5-41A6-8883-DD0308CA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350-2642-4AE8-A23D-A61F8523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CF9-1A8D-40F0-9C79-69317CAB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975-AABF-4C22-8473-5263603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3B07-1324-47A1-88D3-9FEAB804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38956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68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huck Gras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266920" cy="240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9880" y="4038480"/>
            <a:ext cx="3200400" cy="26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1371600"/>
            <a:ext cx="2362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ck Grass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or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1:15:12Z</dcterms:created>
  <dc:creator>Jessica</dc:creator>
  <dc:description/>
  <dc:language>en-US</dc:language>
  <cp:lastModifiedBy>Jessica</cp:lastModifiedBy>
  <dcterms:modified xsi:type="dcterms:W3CDTF">2010-09-22T01:20:25Z</dcterms:modified>
  <cp:revision>1</cp:revision>
  <dc:subject/>
  <dc:title>Chuck Grassley</dc:title>
</cp:coreProperties>
</file>