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F03-4697-440E-BA2A-4F085159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DD6-EFE0-4181-A39E-8868D032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262-F4E8-4693-95BB-3C7356CF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680-3061-41DB-9B88-15F3ED74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6A3-D16B-41FF-AA63-F3C5D3B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7BE-AA41-47DA-B545-70952E23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EBD-FFB6-47BB-8011-B0A50A49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76A-43B6-4599-A691-F4118CA7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191-8491-48F1-9BF9-7ADF4814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7C2A-D297-436A-8B69-0E2E7D0D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6DA-36D6-4350-982A-11650A19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9F1-DCFF-449B-B456-1DA5A33F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B46-66EE-4953-BE3C-C62B07C21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38956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680" y="510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huck Gras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2266920" cy="240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9880" y="4038480"/>
            <a:ext cx="3200400" cy="261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09680" y="45720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20574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24480" y="1371600"/>
            <a:ext cx="2362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ck Grass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ator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1:15:12Z</dcterms:created>
  <dc:creator>Jessica</dc:creator>
  <dc:description/>
  <dc:language>en-US</dc:language>
  <cp:lastModifiedBy>Jessica</cp:lastModifiedBy>
  <dcterms:modified xsi:type="dcterms:W3CDTF">2010-09-22T01:20:25Z</dcterms:modified>
  <cp:revision>1</cp:revision>
  <dc:subject/>
  <dc:title>Chuck Grassley</dc:title>
</cp:coreProperties>
</file>