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B79C-D758-46F3-BD54-9C698CAE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3708-7FBE-4806-90CB-784536C3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5EC2-E6AD-4540-8EB8-8F6F5FAB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C7B-BFB9-44D4-BAD0-ECA581B2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F50-ED61-4A00-BBF7-D87FEB7A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365-EE1F-4512-8E31-39861C5F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179-8639-4D0E-9CAC-24882390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E41-67CA-4128-B170-17B57D96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E939-85F7-4BF3-B2FE-A60CE928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1CD-9CA5-4FEC-97B6-2405125F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99CB-D6C6-449E-B54C-48CF4BAA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D166-EAE5-4B0F-8C46-348DFBDD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51BF-6086-40AA-A146-4C36A00C8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389560" cy="662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680" y="510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Chuck Grass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3009960" cy="3809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2266920" cy="2400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09880" y="4038480"/>
            <a:ext cx="3200400" cy="2610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209680" y="457200"/>
            <a:ext cx="2905200" cy="157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276720" y="205740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324480" y="1371600"/>
            <a:ext cx="23623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ck Grass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ator o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1:15:12Z</dcterms:created>
  <dc:creator>Jessica</dc:creator>
  <dc:description/>
  <dc:language>en-US</dc:language>
  <cp:lastModifiedBy>Jessica</cp:lastModifiedBy>
  <dcterms:modified xsi:type="dcterms:W3CDTF">2010-09-22T01:20:25Z</dcterms:modified>
  <cp:revision>1</cp:revision>
  <dc:subject/>
  <dc:title>Chuck Grassley</dc:title>
</cp:coreProperties>
</file>